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8FA-51E1-4EB4-913A-CCDEA972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A8F-25B8-45A9-B24F-1E04EBDE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939-6E9B-42DA-9A58-F39E0E13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9A1-0771-4CCC-AC85-1CA7107C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234-690E-423A-926B-732C1E89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708-8329-4149-82E6-95C90931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2EE-8623-4E09-AE98-C4E294B1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6CA-2E61-477B-A261-82BFAF41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BB8-AFAC-4B20-AF3D-A2EDEE56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7DA-6F7C-4194-91A2-FFAD5E0A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D05-F5C0-450B-87A6-A6D14F4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247-09B5-4051-BB0B-24CFD1E1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44D1-0767-4B44-82B2-8B51C5A049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rnl.gov/sci/techresources/Human_Genome/elsi/cloning.shtml" TargetMode="External"/><Relationship Id="rId2" Type="http://schemas.openxmlformats.org/officeDocument/2006/relationships/hyperlink" Target="http://whyfiles.org/148clone_clash/4.html" TargetMode="External"/><Relationship Id="rId3" Type="http://schemas.openxmlformats.org/officeDocument/2006/relationships/hyperlink" Target="http://www.sciam.com/article.cfm?articleID=00016CF7-CE54-1CF4-93F6809EC5880000" TargetMode="External"/><Relationship Id="rId4" Type="http://schemas.openxmlformats.org/officeDocument/2006/relationships/hyperlink" Target="http://www.religioustolerance.org/clo_ther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bf1"/>
                </a:solidFill>
                <a:latin typeface="Arial"/>
              </a:rPr>
              <a:t>Therapeutic Cloning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327672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io II-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ly Mu and Anna Petters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533520"/>
            <a:ext cx="830556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otes on Therapeutic Cl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..[medical] methods that fail to respect the dignity and value of the person must always be avoided. I am thinking in particular of attempts at human cloning with a view to obtaining organs for transplants: these techniques, insofar as they involve the manipulation and destruction of human embryos, are not morally acceptable, even when their proposed goal is good in itself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ﾊ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e John Paul II in an address befo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ternational Congress on Transpla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2000-AUG-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matic cell nuclear transfer (more commonly called therapeutic cloning) is about saving and improving lives. It is fundamentally different from human reproductive cloning; it produces stem cells, not babi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 U.S. Newswi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oning in general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ning is the process of creating genetically identical cells or organisms by using individual animals/pla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main types of cloning: DNA cloning, reproductive cloning and therapeutic cloning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11600" y="3733920"/>
            <a:ext cx="2198880" cy="2895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71560" y="58672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ned She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s it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eutic cloning (research cloning) is when stem cells are extracted to grow into a piece of human tissue which is encouraged to grow into a human organ for transplan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are its uses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It is used for medical purposes, such as creating organs to transplant into a patient in need of that organ. If replacement organs are available to the sick and dying people, countless numbers of lives could be saved. Therapeutic cloning is a fast and efficient way to ‘repair’ damaged org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Therapeutic cloning can be used to make insulin-secreting cells to cure for diabetes; nerve cells to cure stroke or Parkinson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5b"/>
          <p:cNvPicPr/>
          <p:nvPr/>
        </p:nvPicPr>
        <p:blipFill>
          <a:blip r:embed="rId1"/>
          <a:stretch/>
        </p:blipFill>
        <p:spPr>
          <a:xfrm>
            <a:off x="5181480" y="4343400"/>
            <a:ext cx="3276720" cy="2201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8954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 is it done? 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is extracted from a human’s cell. The DNA is inserted into a woman’s ovum and allowed to develop and produce stem cells. The stem cells are removed from the pre-embryo and are treated to grown inyo whatever organ is needed. Thus, the new organ is transplanted into the patien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3353040" cy="2649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165080" y="56386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m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ssible Benif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Cloned organs using therapeutic cloning is better than organs donated by another per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o rejection of organ because the organ’s DNA would match the patient’s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Patients do not need to wait for an organ donor to donate his/her org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Brand new organs can work more efficiently than donated org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aving more lives, which otherwise would be lost due to the waiting for a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tential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There are still many deficiencies/ethical disputes in therapeutic cloning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Since therapeutic cloning is still in its early stages of development stem cells sometimes become mutated, thus rejected by the recipient’s body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The production of stem cells needs to become more efficient. So far we need 100 eggs to produce one usable stem cell li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Many pro-life supporters believe that human comes into existence at conception. When the stem cells are extracted the embryo dies, therefore pro-life supporters believe that this is murd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628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ornl.gov/sci/techresources/Human_Genome/elsi/cloning.s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hyfiles.org/148clone_clash/4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http://www.sciam.com/article.cfm?articleID=00016CF7-CE54-1CF4-93F6809EC5880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http://www.religioustolerance.org/clo_ther.ht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www.theage.com.au/ffximage/2007/11/17/PM_Dolly_narrowweb__300x395,0.jp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7:38:39Z</dcterms:created>
  <dc:creator>ICT Office</dc:creator>
  <dc:description/>
  <dc:language>en-US</dc:language>
  <cp:lastModifiedBy>Lily Mu</cp:lastModifiedBy>
  <dcterms:modified xsi:type="dcterms:W3CDTF">2008-03-03T16:12:38Z</dcterms:modified>
  <cp:revision>11</cp:revision>
  <dc:subject/>
  <dc:title>Therapeutic Cloning </dc:title>
</cp:coreProperties>
</file>